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8CFC35A-6414-4711-A5FC-2074E953844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Use this example YI poster template to promote the program in your community. The textbox is available for you to put your own information 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B7A4F70-4F7B-459C-B7C7-36CA7D2C922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E1DC-B0E0-454E-8B4D-83A7A031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4C53-3B4D-469C-97D9-6A0BEA50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2A98-FA09-4656-A496-C739809B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72C4-173B-441B-9287-EAB450A7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34F6-609D-46B8-BB34-98545712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8D38-290E-4D0A-BC69-B9B6D11D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EC72-37BD-4341-843B-9225ABAB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FB24-CCB6-4BEB-981F-A0872759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267E-5636-4E6D-98C1-0F088563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61C8-73E7-47C6-A5C1-0A7634A7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B608-5B42-4C4B-A8A4-BF0E7F45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FAC-4F75-4F5E-9BA6-7B0F8DA8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19700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FA6C385-B3EC-4385-81F7-CEB919A6D2EF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rcRect l="0" t="4564" r="0" b="2248"/>
          <a:stretch/>
        </p:blipFill>
        <p:spPr>
          <a:xfrm>
            <a:off x="82440" y="216000"/>
            <a:ext cx="9694800" cy="644364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776160" y="4508640"/>
            <a:ext cx="8353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Text box area where you can put information such a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Types of software/skills are taugh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Availability of lesson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Upcoming Cybercamps / worksho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And any other related information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00:32:58Z</dcterms:created>
  <dc:creator>Julia Salomone</dc:creator>
  <dc:description/>
  <cp:keywords>YI;Youth Intern at community access sites;poster;promotional materials</cp:keywords>
  <dc:language>en-US</dc:language>
  <cp:lastModifiedBy>Julia</cp:lastModifiedBy>
  <dcterms:modified xsi:type="dcterms:W3CDTF">2013-03-21T00:45:45Z</dcterms:modified>
  <cp:revision>2</cp:revision>
  <dc:subject/>
  <dc:title>PowerPoint Presentation</dc:title>
</cp:coreProperties>
</file>